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0FD-3A7F-4DDE-8A36-6F42CD22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CDF-7A0C-4DAC-A135-3AA357F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D75-527D-436F-AD08-899A5AA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D23-5309-40A1-B299-B244CB85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A0A-8F60-474F-A5A9-2D057551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E63-AC16-40B0-8DBC-FE0C608B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8C6-0CC8-42D7-9458-5A37088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D52-3765-48D1-9732-67D7AF15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3B1-E1B2-4428-91CD-F6DB503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A06-0D03-4F83-9A19-CF36447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952-BE69-4709-8331-2D1555B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413-AE44-4510-9145-044702A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D49-FD28-4257-9369-B8E08E08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Подготовка к ЕГЭ:тригон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Rectangle 3"/>
              <p:cNvSpPr txBox="1"/>
              <p:nvPr/>
            </p:nvSpPr>
            <p:spPr>
              <a:xfrm>
                <a:off x="324000" y="189000"/>
                <a:ext cx="38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Rectangle 3"/>
              <p:cNvSpPr txBox="1"/>
              <p:nvPr/>
            </p:nvSpPr>
            <p:spPr>
              <a:xfrm>
                <a:off x="324000" y="1268280"/>
                <a:ext cx="3168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324000" y="3213000"/>
                <a:ext cx="316836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24000" y="5229360"/>
                <a:ext cx="3168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6028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700280"/>
            <a:ext cx="3024360" cy="79200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2455" h="21600">
                <a:moveTo>
                  <a:pt x="0" y="0"/>
                </a:moveTo>
                <a:lnTo>
                  <a:pt x="82455" y="0"/>
                </a:lnTo>
                <a:lnTo>
                  <a:pt x="82455" y="21600"/>
                </a:lnTo>
                <a:lnTo>
                  <a:pt x="0" y="21600"/>
                </a:lnTo>
                <a:close/>
              </a:path>
              <a:path fill="lightenLess" w="82455" h="21600">
                <a:moveTo>
                  <a:pt x="0" y="0"/>
                </a:moveTo>
                <a:lnTo>
                  <a:pt x="82455" y="0"/>
                </a:lnTo>
                <a:lnTo>
                  <a:pt x="81055" y="1400"/>
                </a:lnTo>
                <a:lnTo>
                  <a:pt x="1400" y="1400"/>
                </a:lnTo>
                <a:close/>
              </a:path>
              <a:path fill="darken" w="82455" h="21600">
                <a:moveTo>
                  <a:pt x="82455" y="0"/>
                </a:moveTo>
                <a:lnTo>
                  <a:pt x="82455" y="21600"/>
                </a:lnTo>
                <a:lnTo>
                  <a:pt x="81055" y="20200"/>
                </a:lnTo>
                <a:lnTo>
                  <a:pt x="81055" y="1400"/>
                </a:lnTo>
                <a:close/>
              </a:path>
              <a:path fill="darkenLess" w="82455" h="21600">
                <a:moveTo>
                  <a:pt x="8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55" y="20200"/>
                </a:lnTo>
                <a:close/>
              </a:path>
              <a:path fill="lighten" w="8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7336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544500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3851280" y="642636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3357720"/>
            <a:ext cx="72010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1116000" y="1413000"/>
                <a:ext cx="705636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84360" y="5229360"/>
            <a:ext cx="3527640" cy="720720"/>
          </a:xfrm>
          <a:custGeom>
            <a:avLst/>
            <a:gdLst>
              <a:gd name="textAreaLeft" fmla="*/ 46440 w 3527640"/>
              <a:gd name="textAreaRight" fmla="*/ 3481200 w 3527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81" h="21600">
                <a:moveTo>
                  <a:pt x="0" y="0"/>
                </a:moveTo>
                <a:lnTo>
                  <a:pt x="105681" y="0"/>
                </a:lnTo>
                <a:lnTo>
                  <a:pt x="105681" y="21600"/>
                </a:lnTo>
                <a:lnTo>
                  <a:pt x="0" y="21600"/>
                </a:lnTo>
                <a:close/>
              </a:path>
              <a:path fill="lightenLess" w="105681" h="21600">
                <a:moveTo>
                  <a:pt x="0" y="0"/>
                </a:moveTo>
                <a:lnTo>
                  <a:pt x="105681" y="0"/>
                </a:lnTo>
                <a:lnTo>
                  <a:pt x="104282" y="1400"/>
                </a:lnTo>
                <a:lnTo>
                  <a:pt x="1400" y="1400"/>
                </a:lnTo>
                <a:close/>
              </a:path>
              <a:path fill="darken" w="105681" h="21600">
                <a:moveTo>
                  <a:pt x="105681" y="0"/>
                </a:moveTo>
                <a:lnTo>
                  <a:pt x="105681" y="21600"/>
                </a:lnTo>
                <a:lnTo>
                  <a:pt x="104282" y="20200"/>
                </a:lnTo>
                <a:lnTo>
                  <a:pt x="104282" y="1400"/>
                </a:lnTo>
                <a:close/>
              </a:path>
              <a:path fill="darkenLess" w="105681" h="21600">
                <a:moveTo>
                  <a:pt x="105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82" y="20200"/>
                </a:lnTo>
                <a:close/>
              </a:path>
              <a:path fill="lighten" w="105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00720" y="4581360"/>
            <a:ext cx="381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6640"/>
            <a:ext cx="4248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Rectangle 3"/>
              <p:cNvSpPr txBox="1"/>
              <p:nvPr/>
            </p:nvSpPr>
            <p:spPr>
              <a:xfrm>
                <a:off x="395280" y="333360"/>
                <a:ext cx="410832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4716360" y="333360"/>
                <a:ext cx="4287960" cy="54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556000" y="59500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0920" y="4724280"/>
            <a:ext cx="39610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2268360" y="260280"/>
                <a:ext cx="426888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556000" y="61372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3500280"/>
            <a:ext cx="5184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835280" y="189000"/>
                <a:ext cx="446724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56000" y="580536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из чисел те, которые принадлежат промежутку [0;2π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13040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8161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10587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1422360" cy="1681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6"/>
          <a:stretch/>
        </p:blipFill>
        <p:spPr>
          <a:xfrm>
            <a:off x="6732720" y="3860640"/>
            <a:ext cx="101412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040040" cy="16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84360" y="1628640"/>
            <a:ext cx="1095480" cy="16812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8"/>
          <p:cNvSpPr/>
          <p:nvPr/>
        </p:nvSpPr>
        <p:spPr>
          <a:xfrm>
            <a:off x="2987640" y="314172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9"/>
          <p:cNvSpPr/>
          <p:nvPr/>
        </p:nvSpPr>
        <p:spPr>
          <a:xfrm>
            <a:off x="5219640" y="328464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5435640" y="134136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7596360" y="3500280"/>
            <a:ext cx="914400" cy="609840"/>
          </a:xfrm>
          <a:prstGeom prst="wedgeRectCallout">
            <a:avLst>
              <a:gd name="adj1" fmla="val -56773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116000" y="4005360"/>
            <a:ext cx="914400" cy="60948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7596360" y="126828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6"/>
          <p:cNvSpPr/>
          <p:nvPr/>
        </p:nvSpPr>
        <p:spPr>
          <a:xfrm>
            <a:off x="755640" y="1341360"/>
            <a:ext cx="1130400" cy="609840"/>
          </a:xfrm>
          <a:prstGeom prst="wedgeRectCallout">
            <a:avLst>
              <a:gd name="adj1" fmla="val -36236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7"/>
          <p:cNvSpPr/>
          <p:nvPr/>
        </p:nvSpPr>
        <p:spPr>
          <a:xfrm>
            <a:off x="3348000" y="1268280"/>
            <a:ext cx="1130400" cy="609840"/>
          </a:xfrm>
          <a:prstGeom prst="wedgeRectCallout">
            <a:avLst>
              <a:gd name="adj1" fmla="val -36375"/>
              <a:gd name="adj2" fmla="val 122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443640" y="6165720"/>
            <a:ext cx="2232000" cy="50328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5741" h="21600">
                <a:moveTo>
                  <a:pt x="0" y="0"/>
                </a:moveTo>
                <a:lnTo>
                  <a:pt x="95741" y="0"/>
                </a:lnTo>
                <a:lnTo>
                  <a:pt x="95741" y="21600"/>
                </a:lnTo>
                <a:lnTo>
                  <a:pt x="0" y="21600"/>
                </a:lnTo>
                <a:close/>
              </a:path>
              <a:path fill="lightenLess" w="95741" h="21600">
                <a:moveTo>
                  <a:pt x="0" y="0"/>
                </a:moveTo>
                <a:lnTo>
                  <a:pt x="95741" y="0"/>
                </a:lnTo>
                <a:lnTo>
                  <a:pt x="94341" y="1400"/>
                </a:lnTo>
                <a:lnTo>
                  <a:pt x="1400" y="1400"/>
                </a:lnTo>
                <a:close/>
              </a:path>
              <a:path fill="darken" w="95741" h="21600">
                <a:moveTo>
                  <a:pt x="95741" y="0"/>
                </a:moveTo>
                <a:lnTo>
                  <a:pt x="95741" y="21600"/>
                </a:lnTo>
                <a:lnTo>
                  <a:pt x="94341" y="20200"/>
                </a:lnTo>
                <a:lnTo>
                  <a:pt x="94341" y="1400"/>
                </a:lnTo>
                <a:close/>
              </a:path>
              <a:path fill="darkenLess" w="95741" h="21600">
                <a:moveTo>
                  <a:pt x="9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41" y="20200"/>
                </a:lnTo>
                <a:close/>
              </a:path>
              <a:path fill="lighten" w="9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741" h="21600">
                <a:moveTo>
                  <a:pt x="40864" y="3794"/>
                </a:moveTo>
                <a:lnTo>
                  <a:pt x="54877" y="10800"/>
                </a:lnTo>
                <a:lnTo>
                  <a:pt x="4086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верны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40360" cy="6476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40360" cy="727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5113440" cy="860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1979640" y="5157720"/>
                <a:ext cx="511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15"/>
          <p:cNvSpPr/>
          <p:nvPr/>
        </p:nvSpPr>
        <p:spPr>
          <a:xfrm>
            <a:off x="7093080" y="2205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7164360" y="342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7093080" y="105264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7236000" y="4653000"/>
            <a:ext cx="122364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84720" y="61657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уравнения, имеющ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 по верному, на твой взгляд, уравнению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736720" cy="779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21080" cy="7477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250920" y="4778280"/>
            <a:ext cx="2808360" cy="7858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8" name="Rectangle 3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2519280" cy="6620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592360" cy="808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2665440" cy="792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2592360" cy="7030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2770200" cy="182736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83" name="AutoShape 27"/>
          <p:cNvSpPr/>
          <p:nvPr/>
        </p:nvSpPr>
        <p:spPr>
          <a:xfrm>
            <a:off x="774072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766764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059280" y="4437000"/>
            <a:ext cx="122364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7740720" y="357336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98764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291636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3"/>
          <p:cNvSpPr/>
          <p:nvPr/>
        </p:nvSpPr>
        <p:spPr>
          <a:xfrm>
            <a:off x="7920000" y="2492280"/>
            <a:ext cx="1224000" cy="609840"/>
          </a:xfrm>
          <a:prstGeom prst="wedgeRectCallout">
            <a:avLst>
              <a:gd name="adj1" fmla="val -61930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2987640" y="292428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796000" y="6093000"/>
            <a:ext cx="2232000" cy="50472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468" h="21600">
                <a:moveTo>
                  <a:pt x="0" y="0"/>
                </a:moveTo>
                <a:lnTo>
                  <a:pt x="95468" y="0"/>
                </a:lnTo>
                <a:lnTo>
                  <a:pt x="95468" y="21600"/>
                </a:lnTo>
                <a:lnTo>
                  <a:pt x="0" y="21600"/>
                </a:lnTo>
                <a:close/>
              </a:path>
              <a:path fill="lightenLess" w="95468" h="21600">
                <a:moveTo>
                  <a:pt x="0" y="0"/>
                </a:moveTo>
                <a:lnTo>
                  <a:pt x="95468" y="0"/>
                </a:lnTo>
                <a:lnTo>
                  <a:pt x="94068" y="1400"/>
                </a:lnTo>
                <a:lnTo>
                  <a:pt x="1400" y="1400"/>
                </a:lnTo>
                <a:close/>
              </a:path>
              <a:path fill="darken" w="95468" h="21600">
                <a:moveTo>
                  <a:pt x="95468" y="0"/>
                </a:moveTo>
                <a:lnTo>
                  <a:pt x="95468" y="21600"/>
                </a:lnTo>
                <a:lnTo>
                  <a:pt x="94068" y="20200"/>
                </a:lnTo>
                <a:lnTo>
                  <a:pt x="94068" y="1400"/>
                </a:lnTo>
                <a:close/>
              </a:path>
              <a:path fill="darkenLess" w="95468" h="21600">
                <a:moveTo>
                  <a:pt x="95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068" y="20200"/>
                </a:lnTo>
                <a:close/>
              </a:path>
              <a:path fill="lighten" w="95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468" h="21600">
                <a:moveTo>
                  <a:pt x="40728" y="3794"/>
                </a:moveTo>
                <a:lnTo>
                  <a:pt x="54740" y="10800"/>
                </a:lnTo>
                <a:lnTo>
                  <a:pt x="4072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о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верному, на твой взгляд, ответ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43640" y="602136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3794"/>
                </a:moveTo>
                <a:lnTo>
                  <a:pt x="55593" y="10800"/>
                </a:lnTo>
                <a:lnTo>
                  <a:pt x="415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987640" y="3514680"/>
                <a:ext cx="33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16360" y="404640"/>
                <a:ext cx="34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8360" y="2349360"/>
                <a:ext cx="266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2349360"/>
                <a:ext cx="25434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80000" y="2349360"/>
                <a:ext cx="2664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5661000"/>
                <a:ext cx="19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35280" y="5661000"/>
                <a:ext cx="2030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588000" y="5805360"/>
                <a:ext cx="2121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501336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877080" y="6381720"/>
            <a:ext cx="2087640" cy="289080"/>
          </a:xfrm>
          <a:custGeom>
            <a:avLst/>
            <a:gdLst>
              <a:gd name="textAreaLeft" fmla="*/ 18720 w 2087640"/>
              <a:gd name="textAreaRight" fmla="*/ 2068920 w 208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5821" h="21600">
                <a:moveTo>
                  <a:pt x="0" y="0"/>
                </a:moveTo>
                <a:lnTo>
                  <a:pt x="155821" y="0"/>
                </a:lnTo>
                <a:lnTo>
                  <a:pt x="155821" y="21600"/>
                </a:lnTo>
                <a:lnTo>
                  <a:pt x="0" y="21600"/>
                </a:lnTo>
                <a:close/>
              </a:path>
              <a:path fill="lightenLess" w="155821" h="21600">
                <a:moveTo>
                  <a:pt x="0" y="0"/>
                </a:moveTo>
                <a:lnTo>
                  <a:pt x="155821" y="0"/>
                </a:lnTo>
                <a:lnTo>
                  <a:pt x="154421" y="1400"/>
                </a:lnTo>
                <a:lnTo>
                  <a:pt x="1400" y="1400"/>
                </a:lnTo>
                <a:close/>
              </a:path>
              <a:path fill="darken" w="155821" h="21600">
                <a:moveTo>
                  <a:pt x="155821" y="0"/>
                </a:moveTo>
                <a:lnTo>
                  <a:pt x="155821" y="21600"/>
                </a:lnTo>
                <a:lnTo>
                  <a:pt x="154421" y="20200"/>
                </a:lnTo>
                <a:lnTo>
                  <a:pt x="154421" y="1400"/>
                </a:lnTo>
                <a:close/>
              </a:path>
              <a:path fill="darkenLess" w="155821" h="21600">
                <a:moveTo>
                  <a:pt x="155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21" y="20200"/>
                </a:lnTo>
                <a:close/>
              </a:path>
              <a:path fill="lighten" w="155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5821" h="21600">
                <a:moveTo>
                  <a:pt x="70904" y="3794"/>
                </a:moveTo>
                <a:lnTo>
                  <a:pt x="84917" y="10800"/>
                </a:lnTo>
                <a:lnTo>
                  <a:pt x="709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Rectangle 3"/>
              <p:cNvSpPr txBox="1"/>
              <p:nvPr/>
            </p:nvSpPr>
            <p:spPr>
              <a:xfrm>
                <a:off x="2987640" y="3613320"/>
                <a:ext cx="3313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0"/>
                <a:ext cx="36496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2349360"/>
                <a:ext cx="2700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2349360"/>
                <a:ext cx="295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372360" y="2349360"/>
                <a:ext cx="2771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3840" y="5661000"/>
                <a:ext cx="2847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440" y="5661000"/>
                <a:ext cx="226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04120" y="5661000"/>
                <a:ext cx="26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21600 w 2089080"/>
              <a:gd name="textAreaRight" fmla="*/ 2067480 w 2089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35239" h="21600">
                <a:moveTo>
                  <a:pt x="0" y="0"/>
                </a:moveTo>
                <a:lnTo>
                  <a:pt x="135239" y="0"/>
                </a:lnTo>
                <a:lnTo>
                  <a:pt x="135239" y="21600"/>
                </a:lnTo>
                <a:lnTo>
                  <a:pt x="0" y="21600"/>
                </a:lnTo>
                <a:close/>
              </a:path>
              <a:path fill="lightenLess" w="135239" h="21600">
                <a:moveTo>
                  <a:pt x="0" y="0"/>
                </a:moveTo>
                <a:lnTo>
                  <a:pt x="135239" y="0"/>
                </a:lnTo>
                <a:lnTo>
                  <a:pt x="133839" y="1400"/>
                </a:lnTo>
                <a:lnTo>
                  <a:pt x="1400" y="1400"/>
                </a:lnTo>
                <a:close/>
              </a:path>
              <a:path fill="darken" w="135239" h="21600">
                <a:moveTo>
                  <a:pt x="135239" y="0"/>
                </a:moveTo>
                <a:lnTo>
                  <a:pt x="135239" y="21600"/>
                </a:lnTo>
                <a:lnTo>
                  <a:pt x="133839" y="20200"/>
                </a:lnTo>
                <a:lnTo>
                  <a:pt x="133839" y="1400"/>
                </a:lnTo>
                <a:close/>
              </a:path>
              <a:path fill="darkenLess" w="135239" h="21600">
                <a:moveTo>
                  <a:pt x="135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9" y="20200"/>
                </a:lnTo>
                <a:close/>
              </a:path>
              <a:path fill="lighten" w="135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239" h="21600">
                <a:moveTo>
                  <a:pt x="60613" y="3794"/>
                </a:moveTo>
                <a:lnTo>
                  <a:pt x="74626" y="10800"/>
                </a:lnTo>
                <a:lnTo>
                  <a:pt x="6061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ы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ьте свое решение с правильны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кнопке Реш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27640" y="6165720"/>
            <a:ext cx="2016360" cy="358920"/>
          </a:xfrm>
          <a:custGeom>
            <a:avLst/>
            <a:gdLst>
              <a:gd name="textAreaLeft" fmla="*/ 23040 w 2016360"/>
              <a:gd name="textAreaRight" fmla="*/ 1993320 w 201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46" h="21600">
                <a:moveTo>
                  <a:pt x="0" y="0"/>
                </a:moveTo>
                <a:lnTo>
                  <a:pt x="121246" y="0"/>
                </a:lnTo>
                <a:lnTo>
                  <a:pt x="121246" y="21600"/>
                </a:lnTo>
                <a:lnTo>
                  <a:pt x="0" y="21600"/>
                </a:lnTo>
                <a:close/>
              </a:path>
              <a:path fill="lightenLess" w="121246" h="21600">
                <a:moveTo>
                  <a:pt x="0" y="0"/>
                </a:moveTo>
                <a:lnTo>
                  <a:pt x="121246" y="0"/>
                </a:lnTo>
                <a:lnTo>
                  <a:pt x="119846" y="1400"/>
                </a:lnTo>
                <a:lnTo>
                  <a:pt x="1400" y="1400"/>
                </a:lnTo>
                <a:close/>
              </a:path>
              <a:path fill="darken" w="121246" h="21600">
                <a:moveTo>
                  <a:pt x="121246" y="0"/>
                </a:moveTo>
                <a:lnTo>
                  <a:pt x="121246" y="21600"/>
                </a:lnTo>
                <a:lnTo>
                  <a:pt x="119846" y="20200"/>
                </a:lnTo>
                <a:lnTo>
                  <a:pt x="119846" y="1400"/>
                </a:lnTo>
                <a:close/>
              </a:path>
              <a:path fill="darkenLess" w="121246" h="21600">
                <a:moveTo>
                  <a:pt x="121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46" y="20200"/>
                </a:lnTo>
                <a:close/>
              </a:path>
              <a:path fill="lighten" w="121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246" h="21600">
                <a:moveTo>
                  <a:pt x="53616" y="3794"/>
                </a:moveTo>
                <a:lnTo>
                  <a:pt x="67629" y="10800"/>
                </a:lnTo>
                <a:lnTo>
                  <a:pt x="5361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12:50Z</dcterms:created>
  <dc:creator>1</dc:creator>
  <dc:description/>
  <dc:language>en-US</dc:language>
  <cp:lastModifiedBy>мвидео</cp:lastModifiedBy>
  <dcterms:modified xsi:type="dcterms:W3CDTF">2017-12-17T08:55:10Z</dcterms:modified>
  <cp:revision>20</cp:revision>
  <dc:subject/>
  <dc:title>Область определения.</dc:title>
</cp:coreProperties>
</file>